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tervention:  use of diagnostic test to target specific intervention based on student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for conceptual understanding not just procedural pro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ful practice ~ elearning activites, practice that involves thinking a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Representation ~ use of manips and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B106-CBA5-4040-B6ED-BE2E9D220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6BFA-DD60-4518-B6E0-D57B79490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4747-9BEA-4F45-9D51-47FBDA994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7868-7141-4AB6-91AC-EF3D9BC82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B5C0-9019-4B9A-A2A8-FF994B5AE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B2AA-DEF1-4ED3-811B-31EE26AC5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6825-1690-4480-BDE6-9D97001D4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E9D9-F1CA-488B-8FD7-7CD4E6E9D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2E6A-554C-4845-B074-84EFCF787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07CD-8FEE-4BEB-AE0F-26D4EC342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DA44-C629-4297-86AA-970C3352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1875-FD07-4857-A920-683ADF406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028-D21C-4ABA-B5A1-3ADF5EC103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43C-6C21-4F76-A376-161A2D826E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Session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AP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Session #4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key pedagogical components of GAP clos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use of open questions for working with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ntent that is particularly problematic for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EE19-7B18-4D85-9DE2-088A04C57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5769-13BD-4B33-A4C9-E802750622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a specific struggling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eatures of GAP closing might be most effective with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rgeted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eptual Based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ningfu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)  Visu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83BE-4D94-4765-8E5B-A89D970B3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B67-9A9E-4A4B-8AF7-15F50A4734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nut 1"/>
          <p:cNvSpPr/>
          <p:nvPr/>
        </p:nvSpPr>
        <p:spPr>
          <a:xfrm>
            <a:off x="2476440" y="1649520"/>
            <a:ext cx="3886200" cy="3608280"/>
          </a:xfrm>
          <a:custGeom>
            <a:avLst/>
            <a:gdLst/>
            <a:ahLst/>
            <a:rect l="l" t="t" r="r" b="b"/>
            <a:pathLst>
              <a:path w="3886200" h="3608387">
                <a:moveTo>
                  <a:pt x="0" y="1804194"/>
                </a:moveTo>
                <a:cubicBezTo>
                  <a:pt x="0" y="807765"/>
                  <a:pt x="869956" y="0"/>
                  <a:pt x="1943100" y="0"/>
                </a:cubicBezTo>
                <a:cubicBezTo>
                  <a:pt x="3016244" y="0"/>
                  <a:pt x="3886200" y="807765"/>
                  <a:pt x="3886200" y="1804194"/>
                </a:cubicBezTo>
                <a:cubicBezTo>
                  <a:pt x="3886200" y="2800623"/>
                  <a:pt x="3016244" y="3608388"/>
                  <a:pt x="1943100" y="3608388"/>
                </a:cubicBezTo>
                <a:cubicBezTo>
                  <a:pt x="869956" y="3608388"/>
                  <a:pt x="0" y="2800623"/>
                  <a:pt x="0" y="1804194"/>
                </a:cubicBezTo>
                <a:close/>
                <a:moveTo>
                  <a:pt x="902097" y="1804194"/>
                </a:moveTo>
                <a:cubicBezTo>
                  <a:pt x="902097" y="2302408"/>
                  <a:pt x="1368170" y="2706291"/>
                  <a:pt x="1943100" y="2706291"/>
                </a:cubicBezTo>
                <a:cubicBezTo>
                  <a:pt x="2518030" y="2706291"/>
                  <a:pt x="2984103" y="2302408"/>
                  <a:pt x="2984103" y="1804194"/>
                </a:cubicBezTo>
                <a:cubicBezTo>
                  <a:pt x="2984103" y="1305980"/>
                  <a:pt x="2518030" y="902097"/>
                  <a:pt x="1943100" y="902097"/>
                </a:cubicBezTo>
                <a:cubicBezTo>
                  <a:pt x="1368170" y="902097"/>
                  <a:pt x="902097" y="1305980"/>
                  <a:pt x="902097" y="1804194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3177000" y="3186000"/>
            <a:ext cx="418680" cy="381240"/>
            <a:chOff x="3177000" y="3186000"/>
            <a:chExt cx="418680" cy="381240"/>
          </a:xfrm>
        </p:grpSpPr>
        <p:sp>
          <p:nvSpPr>
            <p:cNvPr id="62" name="AutoShape 6"/>
            <p:cNvSpPr/>
            <p:nvPr/>
          </p:nvSpPr>
          <p:spPr>
            <a:xfrm flipH="1">
              <a:off x="3176640" y="31860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flipH="1">
              <a:off x="3176640" y="31860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flipH="1">
              <a:off x="3434760" y="32878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flipH="1">
              <a:off x="343332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flipH="1">
              <a:off x="3295440" y="32860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flipH="1">
              <a:off x="329544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3426120" y="3809880"/>
            <a:ext cx="418680" cy="381240"/>
            <a:chOff x="3426120" y="3809880"/>
            <a:chExt cx="418680" cy="381240"/>
          </a:xfrm>
        </p:grpSpPr>
        <p:sp>
          <p:nvSpPr>
            <p:cNvPr id="71" name="AutoShape 6"/>
            <p:cNvSpPr/>
            <p:nvPr/>
          </p:nvSpPr>
          <p:spPr>
            <a:xfrm flipH="1">
              <a:off x="3425760" y="380988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flipH="1">
              <a:off x="3425760" y="380988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flipH="1">
              <a:off x="3683880" y="391176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 flipH="1">
              <a:off x="368244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>
              <a:off x="3544560" y="390996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 flipH="1">
              <a:off x="354456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3559680" y="2544840"/>
            <a:ext cx="418680" cy="380880"/>
            <a:chOff x="3559680" y="2544840"/>
            <a:chExt cx="418680" cy="380880"/>
          </a:xfrm>
        </p:grpSpPr>
        <p:sp>
          <p:nvSpPr>
            <p:cNvPr id="80" name="AutoShape 6"/>
            <p:cNvSpPr/>
            <p:nvPr/>
          </p:nvSpPr>
          <p:spPr>
            <a:xfrm flipH="1">
              <a:off x="3559320" y="2544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flipH="1">
              <a:off x="3559320" y="2544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flipH="1">
              <a:off x="3817440" y="2646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flipH="1">
              <a:off x="381600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flipH="1">
              <a:off x="3678120" y="2644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flipH="1">
              <a:off x="367812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4215240" y="2355840"/>
            <a:ext cx="418680" cy="380880"/>
            <a:chOff x="4215240" y="2355840"/>
            <a:chExt cx="418680" cy="380880"/>
          </a:xfrm>
        </p:grpSpPr>
        <p:sp>
          <p:nvSpPr>
            <p:cNvPr id="89" name="AutoShape 6"/>
            <p:cNvSpPr/>
            <p:nvPr/>
          </p:nvSpPr>
          <p:spPr>
            <a:xfrm flipH="1">
              <a:off x="4214880" y="2355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 flipH="1">
              <a:off x="4214880" y="2355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 flipH="1">
              <a:off x="4473000" y="2457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 flipH="1">
              <a:off x="447156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 flipH="1">
              <a:off x="4333680" y="2455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flipH="1">
              <a:off x="433368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4980240" y="2668680"/>
            <a:ext cx="418680" cy="380880"/>
            <a:chOff x="4980240" y="2668680"/>
            <a:chExt cx="418680" cy="380880"/>
          </a:xfrm>
        </p:grpSpPr>
        <p:sp>
          <p:nvSpPr>
            <p:cNvPr id="98" name="AutoShape 6"/>
            <p:cNvSpPr/>
            <p:nvPr/>
          </p:nvSpPr>
          <p:spPr>
            <a:xfrm flipH="1">
              <a:off x="4979880" y="266868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flipH="1">
              <a:off x="4979880" y="266868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flipH="1">
              <a:off x="5238000" y="277020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flipH="1">
              <a:off x="523656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5098680" y="276840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flipH="1">
              <a:off x="509868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905720" y="3898800"/>
            <a:ext cx="418680" cy="381240"/>
            <a:chOff x="4905720" y="3898800"/>
            <a:chExt cx="418680" cy="381240"/>
          </a:xfrm>
        </p:grpSpPr>
        <p:sp>
          <p:nvSpPr>
            <p:cNvPr id="107" name="AutoShape 6"/>
            <p:cNvSpPr/>
            <p:nvPr/>
          </p:nvSpPr>
          <p:spPr>
            <a:xfrm flipH="1">
              <a:off x="4905360" y="38988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>
              <a:off x="4905360" y="38988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flipH="1">
              <a:off x="5163480" y="40006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516204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>
              <a:off x="5024160" y="39988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flipH="1">
              <a:off x="502416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200840" y="4124160"/>
            <a:ext cx="418680" cy="381240"/>
            <a:chOff x="4200840" y="4124160"/>
            <a:chExt cx="418680" cy="381240"/>
          </a:xfrm>
        </p:grpSpPr>
        <p:sp>
          <p:nvSpPr>
            <p:cNvPr id="116" name="AutoShape 6"/>
            <p:cNvSpPr/>
            <p:nvPr/>
          </p:nvSpPr>
          <p:spPr>
            <a:xfrm flipH="1">
              <a:off x="4200480" y="412416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 flipH="1">
              <a:off x="4200480" y="412416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 flipH="1">
              <a:off x="4458600" y="422604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H="1">
              <a:off x="445716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4319280" y="422424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>
              <a:off x="431928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5238720" y="3279600"/>
            <a:ext cx="420480" cy="381240"/>
            <a:chOff x="5238720" y="3279600"/>
            <a:chExt cx="420480" cy="381240"/>
          </a:xfrm>
        </p:grpSpPr>
        <p:sp>
          <p:nvSpPr>
            <p:cNvPr id="125" name="AutoShape 6"/>
            <p:cNvSpPr/>
            <p:nvPr/>
          </p:nvSpPr>
          <p:spPr>
            <a:xfrm flipH="1">
              <a:off x="5238720" y="3279600"/>
              <a:ext cx="420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 flipH="1">
              <a:off x="5238720" y="3279600"/>
              <a:ext cx="4204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flipH="1">
              <a:off x="5497560" y="33814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flipH="1">
              <a:off x="549540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>
              <a:off x="5357160" y="3379680"/>
              <a:ext cx="4500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 flipH="1">
              <a:off x="535716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5789520" y="2235240"/>
            <a:ext cx="381240" cy="380880"/>
            <a:chOff x="5789520" y="2235240"/>
            <a:chExt cx="381240" cy="380880"/>
          </a:xfrm>
        </p:grpSpPr>
        <p:sp>
          <p:nvSpPr>
            <p:cNvPr id="134" name="AutoShape 17"/>
            <p:cNvSpPr/>
            <p:nvPr/>
          </p:nvSpPr>
          <p:spPr>
            <a:xfrm>
              <a:off x="5789520" y="22352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789520" y="223524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5897520" y="233676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589752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6023160" y="233496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602316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4186080" y="1459080"/>
            <a:ext cx="381240" cy="380880"/>
            <a:chOff x="4186080" y="1459080"/>
            <a:chExt cx="381240" cy="380880"/>
          </a:xfrm>
        </p:grpSpPr>
        <p:sp>
          <p:nvSpPr>
            <p:cNvPr id="143" name="AutoShape 17"/>
            <p:cNvSpPr/>
            <p:nvPr/>
          </p:nvSpPr>
          <p:spPr>
            <a:xfrm>
              <a:off x="4186080" y="14590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4186080" y="145908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294080" y="156060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429408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4419720" y="155880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41972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2584440" y="2075040"/>
            <a:ext cx="380880" cy="380880"/>
            <a:chOff x="2584440" y="2075040"/>
            <a:chExt cx="380880" cy="380880"/>
          </a:xfrm>
        </p:grpSpPr>
        <p:sp>
          <p:nvSpPr>
            <p:cNvPr id="152" name="AutoShape 17"/>
            <p:cNvSpPr/>
            <p:nvPr/>
          </p:nvSpPr>
          <p:spPr>
            <a:xfrm>
              <a:off x="2584440" y="207504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2584440" y="207504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2692080" y="217656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69208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2817720" y="217476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281772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2209680" y="3214800"/>
            <a:ext cx="381240" cy="380880"/>
            <a:chOff x="2209680" y="3214800"/>
            <a:chExt cx="381240" cy="380880"/>
          </a:xfrm>
        </p:grpSpPr>
        <p:sp>
          <p:nvSpPr>
            <p:cNvPr id="161" name="AutoShape 17"/>
            <p:cNvSpPr/>
            <p:nvPr/>
          </p:nvSpPr>
          <p:spPr>
            <a:xfrm>
              <a:off x="2209680" y="32148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2209680" y="32148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2317680" y="33163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231768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"/>
            <p:cNvSpPr/>
            <p:nvPr/>
          </p:nvSpPr>
          <p:spPr>
            <a:xfrm>
              <a:off x="2443320" y="33145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244332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2666880" y="4464000"/>
            <a:ext cx="381240" cy="380880"/>
            <a:chOff x="2666880" y="4464000"/>
            <a:chExt cx="381240" cy="380880"/>
          </a:xfrm>
        </p:grpSpPr>
        <p:sp>
          <p:nvSpPr>
            <p:cNvPr id="170" name="AutoShape 17"/>
            <p:cNvSpPr/>
            <p:nvPr/>
          </p:nvSpPr>
          <p:spPr>
            <a:xfrm>
              <a:off x="2666880" y="4464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666880" y="44640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2774880" y="45655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277488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2900520" y="45637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290052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38640" y="5067360"/>
            <a:ext cx="380880" cy="380880"/>
            <a:chOff x="4238640" y="5067360"/>
            <a:chExt cx="380880" cy="380880"/>
          </a:xfrm>
        </p:grpSpPr>
        <p:sp>
          <p:nvSpPr>
            <p:cNvPr id="179" name="AutoShape 17"/>
            <p:cNvSpPr/>
            <p:nvPr/>
          </p:nvSpPr>
          <p:spPr>
            <a:xfrm>
              <a:off x="4238640" y="50673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238640" y="506736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346280" y="516888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34628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471920" y="516708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47192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6157800" y="3494160"/>
            <a:ext cx="381240" cy="380880"/>
            <a:chOff x="6157800" y="3494160"/>
            <a:chExt cx="381240" cy="380880"/>
          </a:xfrm>
        </p:grpSpPr>
        <p:sp>
          <p:nvSpPr>
            <p:cNvPr id="188" name="AutoShape 17"/>
            <p:cNvSpPr/>
            <p:nvPr/>
          </p:nvSpPr>
          <p:spPr>
            <a:xfrm>
              <a:off x="6157800" y="349416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157800" y="349416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65800" y="359568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626580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3"/>
            <p:cNvSpPr/>
            <p:nvPr/>
          </p:nvSpPr>
          <p:spPr>
            <a:xfrm>
              <a:off x="6391440" y="359388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639144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5668920" y="4438800"/>
            <a:ext cx="380880" cy="380880"/>
            <a:chOff x="5668920" y="4438800"/>
            <a:chExt cx="380880" cy="380880"/>
          </a:xfrm>
        </p:grpSpPr>
        <p:sp>
          <p:nvSpPr>
            <p:cNvPr id="197" name="AutoShape 17"/>
            <p:cNvSpPr/>
            <p:nvPr/>
          </p:nvSpPr>
          <p:spPr>
            <a:xfrm>
              <a:off x="5668920" y="44388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668920" y="443880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5776560" y="454032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577656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5902200" y="453852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590220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477120" y="144792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A shares with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B responds to A in the form of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Revers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Then, rotate 3 to the right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hoic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Grade 9 GAP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a module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the 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suggested interventio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 Facilitator’s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 4.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Your Own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ose a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Open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4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BA7-8D06-4CCB-8DC8-D30F86550F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45720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odules most closely aligned with CAMPPP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s, Proportional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s and Equations, Solv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the GAP closing materials with your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incorporate some of the “features” of GAP closing into your instruction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ole do open questions currently play in your classroom? How might you use them to support struggling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BBD-9795-41D0-AA5C-0A97A50DA3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15D-8B19-4D36-98E1-51C98F37A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3276720" cy="461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376880" y="1444680"/>
            <a:ext cx="4827600" cy="31338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219320" y="17146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of the w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esonates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ffirme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idea struck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354640" y="16765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 of the we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uzzling o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on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question do you stil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9DE-6EFC-4A3E-99C4-479176EACF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67320" cy="3486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533520" y="1600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light bulb/ puzzle piece to one of the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 couple of idea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600200"/>
            <a:ext cx="533412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etting us journey through this week of learning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6CB-1195-4AF4-8C8E-2808A980C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Z:\Clip Art\Occasions\Parties (A - L)\Balloons 03.wmf"/>
          <p:cNvPicPr/>
          <p:nvPr/>
        </p:nvPicPr>
        <p:blipFill>
          <a:blip r:embed="rId1"/>
          <a:stretch/>
        </p:blipFill>
        <p:spPr>
          <a:xfrm>
            <a:off x="5791320" y="380880"/>
            <a:ext cx="358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1T01:52:27Z</dcterms:modified>
  <cp:revision>18</cp:revision>
  <dc:subject/>
  <dc:title>&lt;Title&gt;</dc:title>
</cp:coreProperties>
</file>